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02F-99DB-41E5-84DB-FA594F10283C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379-C82F-4FE7-BE69-34F497FDA00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ABD9-2051-4F8F-BB48-07A8B837D6F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ache.org/licenses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8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velop plan to expand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133360"/>
            <a:ext cx="118616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termine audience and track data usage and impac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Journal articles, gray literature, popular media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s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Research, education, policy-making, plann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rs served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iplines and sub-disciplines of journals where data are c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ommunities (scientists, educators, students, decision-maker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ational and international (languag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gaps a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Unmet expectations for data uses or user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 plan to addres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Promotional activities or event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overy opportunities (additional catalogs, search engine optimization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products (subsets, maps, integrated data, translations, lesson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services (simple analytical tools, advanced tools, visualization capabiliti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dentify criteria to measure success for each element of plan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pansion of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680" y="232416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e plan for expanding user communit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pare results of each expansion activity with success criteri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rrect or improve unsuccessful expansion activ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 data usage and impact over time to identify improvemen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form gap analysis to identify opportunities for expans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evelop plans for continued expansion based on gap analysi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iodically repeat user community expansion pro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apache.org/licenses/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Working with your archive organization- overview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ecting an archive for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paring scientific data for archiv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mitting scientific data to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pand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dentify data services need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133360"/>
            <a:ext cx="11861640" cy="67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serve potential users of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ould users of the archive be interested in the data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visitors to the archive find the data in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disseminate similar kinds of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provide a dedicated web page or services for data us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users of these data receive support from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just refer questions to me or will they maintain the answ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usag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know whether and how the data are us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manage the data over time and provide access in the futur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rchiving scientific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enter or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ipline-specific or multidisciplin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stitutional reposi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affili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al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ublisher’s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associated with publi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or commercial intere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n an archive be trust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2133720"/>
            <a:ext cx="120398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management capabil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ack record for data management and ongoing dissemin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fessions and disciplines in which staff have experti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ganization and infrastructur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levance of organizational mission and strate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Quality assurance (QA) and quality control (QC) policies &amp; proced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 hardware and softwar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commendations, reviews, and assess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ommendations from data producers and data us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ternal or interna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s compliance assess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pen Archival Information System (OAIS) Reference Model, Trustworthy Repository Audit and Certification: Criteria and Checklist (TRAC), ISO 16363  (Audit and Certification of Trustworthy Digital Repositories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 relationship with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tibility of data and mutually beneficial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community served and anticipated future communiti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collec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data products and services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pare to cooperate on acquisition and develop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portfolio of collec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data products and servi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dentify needs for developing data into products or servi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relevant policies of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 intellectual property rights (and restrictions, if applicabl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submission information package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operative planning with the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art of existing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tablish new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re multiple data products or services planned?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semina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omotion activities and ev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Based on intended audienc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covery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atalo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arch Engine Optimization (SEO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semination information package (DIP) cont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product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service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Reference services (Interactive and asynchronou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requently Asked Questions (FAQ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Long-term preservation and acces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ontinuous review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pare Submission Information Pack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ather and package relevant information with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nt standard to be us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y descrip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scriptions of instruments and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r guid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to relevant publ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ion for project team, organizations, and sponso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ights declarations (archive rights and user right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ckaging form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bmitting scientific data for archiv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8720" y="22093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sure that the data are comple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y errors have been correc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crepancies between copies have been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s maintained by team members have been consolida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pdates to ancillary information have been review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mmendations for improvement have been followed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ify that submission information package meets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llo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k archive staff if you have ques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04:00Z</dcterms:modified>
  <cp:revision>111</cp:revision>
  <dc:subject/>
  <dc:title>ESIP Federation 101</dc:title>
</cp:coreProperties>
</file>